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62C-48CE-4D9D-B8F6-FD6A7B0B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177-A127-43A9-98FA-0A8E968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DCC-3A19-4A23-8A6D-6E16B3DD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225-13DB-413A-A3D4-99B146EC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FE3-0D66-4106-930A-AB903DC5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DB9-72D8-458B-BEC5-8CC5658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452-181B-4101-9B41-BE3A580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A6B-8543-4508-BA4B-A8050DC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C6D-8481-476A-A220-C12FDAB8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340-281D-4EA6-BFEC-AD6C472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8A8-F863-49C5-B74D-8F1ACD7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E6B-32DB-4431-87C0-9EF2C98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2D7-E45E-4F95-BBFB-C2E95D9E2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5486400" cy="266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ight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16600"/>
            <a:ext cx="1257480" cy="94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4038480"/>
            <a:ext cx="3200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ed ant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: Erica Martin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0"/>
            <a:ext cx="2133720" cy="21337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523880" cy="16002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733920"/>
            <a:ext cx="14479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066680"/>
            <a:ext cx="152388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66688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0"/>
            <a:ext cx="2057400" cy="1371600"/>
          </a:xfrm>
          <a:prstGeom prst="rect">
            <a:avLst/>
          </a:prstGeom>
          <a:solidFill>
            <a:srgbClr val="b725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0"/>
            <a:ext cx="4800600" cy="2819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038480"/>
            <a:ext cx="5867280" cy="2819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514600"/>
            <a:ext cx="175284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838080"/>
            <a:ext cx="2133720" cy="2133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971800" cy="1143000"/>
          </a:xfrm>
          <a:prstGeom prst="rect">
            <a:avLst/>
          </a:prstGeom>
          <a:solidFill>
            <a:srgbClr val="e857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429000"/>
            <a:ext cx="1904760" cy="342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819520"/>
            <a:ext cx="213372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5257800"/>
            <a:ext cx="13716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2666880" cy="2057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0"/>
            <a:ext cx="1295280" cy="1828800"/>
          </a:xfrm>
          <a:prstGeom prst="rect">
            <a:avLst/>
          </a:prstGeom>
          <a:solidFill>
            <a:srgbClr val="91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2362320" cy="243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52280" y="5486400"/>
            <a:ext cx="205740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152388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2209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86400"/>
            <a:ext cx="1143000" cy="1371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838080"/>
            <a:ext cx="152640" cy="7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6248520" cy="571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6400" y="17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600200"/>
            <a:ext cx="327672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Fireflie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leen Fisher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the soft dark nigh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en the wind is stil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bullfrogs croak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bottom of the hill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fireflies reach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ide their coat p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screw little light bulb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o their s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 they can f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rough the night and pla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out bumping their head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losing their way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12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7800"/>
            <a:ext cx="350532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n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oem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Jacqui Thor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ray begins to fa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color creeps from leaf to li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ght is slowly seeping u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 beneath the earth's curved r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ky blue strengthens slow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azed with hues of orange an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wly as the earth revol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lifts up it'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s shimmer in th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hapes begin to unve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rees and flowers separ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the dawn light rosy and p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climbs higher in the s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's light shimmering and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things now are clearly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new day has been 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066680" y="-1440"/>
            <a:ext cx="1021068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0"/>
            <a:ext cx="2133720" cy="5727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nset in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Janine M. J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unset in Heav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w absolutely astonishing, It must be, to see a sunset in heaven. The creamy clouds reflecting off the, Blinding sun. On some the sky is probably painted, A bloody pomegranate scarl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ile other days are candy colored orange. Each sunset is a little different though. Some have a little more violet, Or less orang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ing them have a strong golden hue. And there are some that fade quickly, As if the sky is one large embe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se are probably lovely. But then there are those that just, Try to keep daylight going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ones that a person might wish, Never fad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y are probably far too beautiful for anyon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escribe. Once the sky turns to blue and black, It is all over. Sun rises, Do not seem as if they would, Be as phenomenal as a set. It would be the type of happening, That even the wildest of individuals, Pay attention to. Luckily in heaven, The sunsets are only fore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0"/>
            <a:ext cx="38862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Woods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Annette Bigger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ld geese fly with the moon on their wing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 nightingale sits on a branch as it sing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is peaceful in the still of night, and the moon is shining very bright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re's only a rustle of a breeze in the tree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o night for sure there will be a freeze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the air is crisp, so crisp it will snap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slightest sound, rustle or rap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 owl skims slowly o'er the tree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lowly circles 'round a tree and s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its and surveys the forest floo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ptivated by mystery and woodsy lore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t night in the forest there's gamey in the ai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he wild fox now creeps out of its lair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yaps and the stillness is split with a knif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et all else continues with no conflict or str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2160" y="304920"/>
            <a:ext cx="2073240" cy="259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5330880"/>
            <a:ext cx="1905120" cy="152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960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990720"/>
            <a:ext cx="297180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33"/>
                </a:solidFill>
                <a:uFillTx/>
                <a:latin typeface="Times New Roman"/>
              </a:rPr>
              <a:t>The Sta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Times New Roman"/>
              </a:rPr>
              <a:t>by Jane Taylo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ow I wonder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Up above the world so high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ke a diamond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When the blazing sun is s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the grass with dew is w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you show your little ligh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all the n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the traveler in the d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anks you for your tiny sp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e could not see where to go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f you did not twinkle 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n the dark blue sky you k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often through my curtains p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For you never shut your eye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ill the sun is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s your bright and tiny sp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ghts the traveler in the d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ough I know not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3c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91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943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5867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763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154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5638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3657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2971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267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838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3581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28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47920"/>
            <a:ext cx="2590920" cy="41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666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124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4440" y="-95400"/>
            <a:ext cx="180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76320"/>
            <a:ext cx="242244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9933ff"/>
                </a:solidFill>
                <a:uFillTx/>
                <a:latin typeface="Times New Roman"/>
              </a:rPr>
              <a:t>Moonlight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a pale phantom with a l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cends some ruined haunted stair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o glides the moon along the d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Mysterious chambers of the a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Now hidden in cloud, and now rev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if this phantom, full of pain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re by the crumbling walls conc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at the windows seen aga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Until at last, serene and proud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all the splendour of her light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he walks the terraces of clou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upreme as Empress of the Nigh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look, but recognize no mor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bjects familiar to my view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pathway to my door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an enchanted aven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ll things are changed. One mass of shade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elm-trees drop their curtains down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By palace, park, and colonnad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walk as in a foreign tow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ground beneath my f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clothed with a diviner air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hite marble paves the silent str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glimmers in the empty squa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llusion! Underneath there l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common life of everyday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nly the spirit glorif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ith its own tints the sober gr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vain we look, in vain upl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ur eyes to heaven, if we are blind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 see but what we have the g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f seeing; what we bring we f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933ff"/>
                </a:solidFill>
                <a:latin typeface="Times New Roman"/>
              </a:rPr>
              <a:t>By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Henry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Wadsworth Longfe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0"/>
            <a:ext cx="5715000" cy="65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ccff33"/>
                </a:solidFill>
                <a:uFillTx/>
                <a:latin typeface="Times New Roman"/>
              </a:rPr>
              <a:t>Nigh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© Marissa Martine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crickets sing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owls hoot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Look up now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What do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How do you feel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full moon at its brightes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stars right beside it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s you lay on the ground next to your soulmate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breathing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 to listen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heart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the world around you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moon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star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mates breathing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your soulmates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the elements around you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1600200" cy="11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286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9b"/>
            </a:gs>
            <a:gs pos="50000">
              <a:srgbClr val="a2ecf4"/>
            </a:gs>
            <a:gs pos="100000">
              <a:srgbClr val="e5ff9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7960" y="-47520"/>
            <a:ext cx="271656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n Dreaming</a:t>
            </a:r>
            <a:br>
              <a:rPr sz="14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When slumber seals our weary eye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busy fancy wakeful keeps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cenes which then before us ris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rove something in us never sleeps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s in another world we s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 new creation of our own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ll appears real, though a drea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all familiar, though unknown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ometimes the mind beholds again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past day's business in review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sumes the pleasure or the pain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sometimes all we meet is new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schemes we form, what pains we take!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fight, we run, we fly, we fall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all is ended when we wak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scarcely then a trace recall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though our dreams are often wil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Like clouds before the driving storm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Yet some important may be styl'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ent to admonish or inform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mighty agents have acc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friends from heav'n, or foes from he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minds to comfort or distr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we are sleeping, who can tell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ne thing, at least, and 'tis enough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learn from this surprising fact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dreams afford sufficient proof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oul, without the flesh, can act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is life, which mortals so est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at many choose it for their a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y will confess, was but a dream,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'waken'd by death's awful call.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John Newton</a:t>
            </a: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9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88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77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8055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966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805500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805500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55000" y="37339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8055000" y="29178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8055000" y="21114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8055000" y="12952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7623000" y="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6534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5445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4356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8"/>
          <a:stretch/>
        </p:blipFill>
        <p:spPr>
          <a:xfrm>
            <a:off x="3267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9"/>
          <a:stretch/>
        </p:blipFill>
        <p:spPr>
          <a:xfrm>
            <a:off x="2178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0"/>
          <a:stretch/>
        </p:blipFill>
        <p:spPr>
          <a:xfrm>
            <a:off x="0" y="1962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0" y="277812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2"/>
          <a:stretch/>
        </p:blipFill>
        <p:spPr>
          <a:xfrm>
            <a:off x="0" y="3594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>
            <a:off x="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>
            <a:off x="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>
            <a:off x="431640" y="604188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>
            <a:off x="0" y="1146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7"/>
          <a:stretch/>
        </p:blipFill>
        <p:spPr>
          <a:xfrm>
            <a:off x="1521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8"/>
          <a:stretch/>
        </p:blipFill>
        <p:spPr>
          <a:xfrm>
            <a:off x="2610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9"/>
          <a:stretch/>
        </p:blipFill>
        <p:spPr>
          <a:xfrm>
            <a:off x="3699000" y="6041880"/>
            <a:ext cx="1089000" cy="81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990720"/>
            <a:ext cx="27529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Moonlight Nights</a:t>
            </a:r>
            <a:br>
              <a:rPr sz="13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y Bernard How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clear sky seems to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the moon so big and br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ighting up our hill sid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an iridescence light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hadows hide amongst the tre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hilst I listen to the gentle breeze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night time opera in front of m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magical moment under a grand marque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now I know that no man ali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uld ever produce this kind of splendo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in which a heart beats faster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which makes my heart surrender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beauty within our heavens light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lls me with a passion a deep del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kes sparkle from shore to shor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no one could ever ignor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ow can darkness have such a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warmth so bold to comfort our soul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from heaven to help us belie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knowledge that can, make us all wh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7400" y="685800"/>
            <a:ext cx="586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7086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781680" cy="6248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5d3e5"/>
                </a:solidFill>
                <a:uFillTx/>
                <a:latin typeface="Times New Roman"/>
              </a:rPr>
              <a:t>Sha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5d3e5"/>
                </a:solidFill>
                <a:uFillTx/>
                <a:latin typeface="Times New Roman"/>
              </a:rPr>
              <a:t>©Adam Rulli-Gibbs 2001 -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If it won't leave me alone it's no surprise that I'm shr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to no avail, my shadow follows me stil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When sunlight reveals my frown, that only fills it with gl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Yet on a moonlit night it never fails to locate 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Until my shadow appears the only thing that is tr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ppearing in a flash on any wall within 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increasingly I realize that it is pleasing after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o have such a constant companion, then I re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hat the only times my shadow has left me a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have been the darkest times that I have kn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nd so it fills me with delight to have my shadow ab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for it completes my world, without a doub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2723"/>
          <a:stretch/>
        </p:blipFill>
        <p:spPr>
          <a:xfrm>
            <a:off x="6172200" y="4114800"/>
            <a:ext cx="2333520" cy="252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31775" r="27770" b="0"/>
          <a:stretch/>
        </p:blipFill>
        <p:spPr>
          <a:xfrm>
            <a:off x="5486400" y="73080"/>
            <a:ext cx="20574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2:32:47Z</dcterms:created>
  <dc:creator>A</dc:creator>
  <dc:description/>
  <dc:language>en-US</dc:language>
  <cp:lastModifiedBy>A</cp:lastModifiedBy>
  <dcterms:modified xsi:type="dcterms:W3CDTF">2009-05-12T02:37:31Z</dcterms:modified>
  <cp:revision>2</cp:revision>
  <dc:subject/>
  <dc:title>No Slide Title</dc:title>
</cp:coreProperties>
</file>